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23F-C1F2-43EC-8DE6-D8F2767C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3A8-78F9-47BB-BF03-9FA2E67A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4D6-8D74-47A2-8CD8-8B866BAD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12E-B3D8-4714-95E9-8803A6E4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3FA-3AB6-4263-8DD8-32343019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2C5-F0E4-43A4-BE7C-7DDB8A80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6EC-AA5D-4C69-A537-B3581A39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F0E-820D-4582-BB8D-0BE79075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B46-479A-41CC-A4EA-42ADDB12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547-97A8-4EE3-B4E0-114BA1C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BBB-F548-448B-8069-4687927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224-2F8A-4576-91C2-3242930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5B3B-4CB6-4082-83A9-8C7D1228E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him, i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ecause of hi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affirm the Church’s fa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4:57Z</dcterms:created>
  <dc:creator>Anon Anon</dc:creator>
  <dc:description/>
  <dc:language>en-US</dc:language>
  <cp:lastModifiedBy>Anon Anon</cp:lastModifiedBy>
  <dcterms:modified xsi:type="dcterms:W3CDTF">2005-08-09T05:09:48Z</dcterms:modified>
  <cp:revision>8</cp:revision>
  <dc:subject/>
  <dc:title>Memorial Acclamation (SLD-2)</dc:title>
</cp:coreProperties>
</file>